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008-8601-40F7-A0B7-1E2A62DA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9D2-5B45-41D2-9BFE-EA291DC8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D11-9DAE-4057-A976-24B93C17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A84-0C3D-4C06-B06A-4AD89341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0EF-9000-4397-842E-C161ED61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7BD-9771-4E56-A646-34472F3F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FD9-9374-4245-844C-2B3612A5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D13-9BA1-495C-8F4C-5DD47DC1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7A7-D843-48FD-90B5-22DA743A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BA7-DADD-4671-8C26-EB44D94A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BDC-0DC2-4DF0-B106-137A8DE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155-F928-46DE-9F0C-5ABE890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f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E16C-8D70-4475-AF5C-4939E8692FD4}" type="slidenum"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df9"/>
                </a:solidFill>
                <a:latin typeface="Comic Sans MS"/>
              </a:rPr>
              <a:t>Graphs, Charts &amp; Tables</a:t>
            </a:r>
            <a:endParaRPr b="0" lang="en-US" sz="4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8179c"/>
                </a:solidFill>
                <a:latin typeface="Comic Sans MS"/>
              </a:rPr>
              <a:t>Scatter Graphs</a:t>
            </a:r>
            <a:endParaRPr b="0" lang="en-US" sz="40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60948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The aims of this lesson are to be able to: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•  </a:t>
            </a: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draw a scatter graph from given data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•  </a:t>
            </a: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draw a line of best fit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•  </a:t>
            </a:r>
            <a:r>
              <a:rPr b="0" lang="en-GB" sz="3200" spc="-1" strike="noStrike">
                <a:solidFill>
                  <a:srgbClr val="fffdf9"/>
                </a:solidFill>
                <a:latin typeface="Comic Sans MS"/>
              </a:rPr>
              <a:t>use the line to predict results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52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df9"/>
                </a:solidFill>
                <a:latin typeface="Comic Sans MS"/>
              </a:rPr>
              <a:t>The following table is a record of average monthly rainfall and average monthly temperature.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990720"/>
          <a:ext cx="7848720" cy="952560"/>
        </p:xfrm>
        <a:graphic>
          <a:graphicData uri="http://schemas.openxmlformats.org/drawingml/2006/table">
            <a:tbl>
              <a:tblPr/>
              <a:tblGrid>
                <a:gridCol w="1873080"/>
                <a:gridCol w="498600"/>
                <a:gridCol w="496800"/>
                <a:gridCol w="500040"/>
                <a:gridCol w="497160"/>
                <a:gridCol w="496800"/>
                <a:gridCol w="498600"/>
                <a:gridCol w="498240"/>
                <a:gridCol w="496800"/>
                <a:gridCol w="498600"/>
                <a:gridCol w="496800"/>
                <a:gridCol w="500040"/>
                <a:gridCol w="497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Rainfall (mm)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fdf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Temp. (</a:t>
                      </a: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C)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fdf9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8179c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df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df9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fdf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676520" y="2057400"/>
            <a:ext cx="6095880" cy="4496400"/>
            <a:chOff x="1676520" y="2057400"/>
            <a:chExt cx="6095880" cy="4496400"/>
          </a:xfrm>
        </p:grpSpPr>
        <p:grpSp>
          <p:nvGrpSpPr>
            <p:cNvPr id="47" name=""/>
            <p:cNvGrpSpPr/>
            <p:nvPr/>
          </p:nvGrpSpPr>
          <p:grpSpPr>
            <a:xfrm>
              <a:off x="2057400" y="2057400"/>
              <a:ext cx="5715000" cy="4114800"/>
              <a:chOff x="2057400" y="2057400"/>
              <a:chExt cx="5715000" cy="4114800"/>
            </a:xfrm>
          </p:grpSpPr>
          <p:sp>
            <p:nvSpPr>
              <p:cNvPr id="48" name=""/>
              <p:cNvSpPr/>
              <p:nvPr/>
            </p:nvSpPr>
            <p:spPr>
              <a:xfrm>
                <a:off x="2057400" y="6172200"/>
                <a:ext cx="5715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2057400" y="2057400"/>
                <a:ext cx="0" cy="411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241452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277164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312876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348624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384336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420048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455760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491472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527184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562932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598644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634356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670068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705780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7415280" y="2298960"/>
                <a:ext cx="0" cy="38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57400" y="229932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57400" y="254124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400" y="278352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57400" y="302544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400" y="326736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57400" y="350964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057400" y="375156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057400" y="399348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57400" y="423576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57400" y="447768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57400" y="471960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57400" y="496188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057400" y="520380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57400" y="544572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57400" y="568800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57400" y="5929920"/>
                <a:ext cx="535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905120" y="6216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4600" y="62164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2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6720" y="6216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3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2520" y="6216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4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24280" y="6216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5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6400" y="6216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6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2480" y="54864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45720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15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4038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2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5812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25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1240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df9"/>
                  </a:solidFill>
                  <a:latin typeface="Comic Sans MS"/>
                </a:rPr>
                <a:t>30</a:t>
              </a:r>
              <a:endParaRPr b="0" lang="en-US" sz="16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095880" y="64911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df9"/>
                </a:solidFill>
                <a:latin typeface="Comic Sans MS"/>
              </a:rPr>
              <a:t>Rainfall</a:t>
            </a:r>
            <a:endParaRPr b="0" lang="en-US" sz="1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df9"/>
                </a:solidFill>
                <a:latin typeface="Comic Sans MS"/>
              </a:rPr>
              <a:t>Temp.</a:t>
            </a:r>
            <a:endParaRPr b="0" lang="en-US" sz="1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59092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434340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64832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88620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2670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480060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304812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64832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289548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373392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2743200"/>
            <a:ext cx="30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89548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3352680"/>
            <a:ext cx="3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04812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8128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03848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7200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190512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562720" y="1905120"/>
            <a:ext cx="2514600" cy="304560"/>
            <a:chOff x="5562720" y="1905120"/>
            <a:chExt cx="2514600" cy="304560"/>
          </a:xfrm>
        </p:grpSpPr>
        <p:sp>
          <p:nvSpPr>
            <p:cNvPr id="114" name=""/>
            <p:cNvSpPr/>
            <p:nvPr/>
          </p:nvSpPr>
          <p:spPr>
            <a:xfrm flipV="1">
              <a:off x="556272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01992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55308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01028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54380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77320" y="190512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0"/>
            <a:ext cx="7086600" cy="5076720"/>
            <a:chOff x="228600" y="0"/>
            <a:chExt cx="7086600" cy="5076720"/>
          </a:xfrm>
        </p:grpSpPr>
        <p:grpSp>
          <p:nvGrpSpPr>
            <p:cNvPr id="121" name=""/>
            <p:cNvGrpSpPr/>
            <p:nvPr/>
          </p:nvGrpSpPr>
          <p:grpSpPr>
            <a:xfrm>
              <a:off x="1219320" y="0"/>
              <a:ext cx="6095880" cy="4496400"/>
              <a:chOff x="1219320" y="0"/>
              <a:chExt cx="6095880" cy="449640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600200" y="0"/>
                <a:ext cx="5715000" cy="4114800"/>
                <a:chOff x="1600200" y="0"/>
                <a:chExt cx="5715000" cy="41148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600200" y="4114800"/>
                  <a:ext cx="571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1600200" y="0"/>
                  <a:ext cx="0" cy="4114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195732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231444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267156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302904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338616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374328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410040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445752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81464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17212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552924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588636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624348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0060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958080" y="241560"/>
                  <a:ext cx="0" cy="38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600200" y="24192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600200" y="48384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600200" y="72612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600200" y="96804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00200" y="120996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600200" y="145224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600200" y="169416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00200" y="193608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00200" y="217836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00200" y="242028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00200" y="266220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600200" y="290448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600200" y="314640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600200" y="338832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600200" y="363060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600200" y="3872520"/>
                  <a:ext cx="535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df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1447920" y="4159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57400" y="4159080"/>
                <a:ext cx="76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2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19520" y="415908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3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05320" y="415908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4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67080" y="415908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5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29200" y="415908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6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95280" y="34290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5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19320" y="2971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19320" y="25146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15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1981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2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19320" y="152388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25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19320" y="106668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df9"/>
                    </a:solidFill>
                    <a:latin typeface="Comic Sans MS"/>
                  </a:rPr>
                  <a:t>30</a:t>
                </a:r>
                <a:endParaRPr b="0" lang="en-US" sz="16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638680" y="443412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df9"/>
                  </a:solidFill>
                  <a:latin typeface="Comic Sans MS"/>
                </a:rPr>
                <a:t>Rainfall</a:t>
              </a:r>
              <a:endParaRPr b="0" lang="en-US" sz="18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1600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df9"/>
                  </a:solidFill>
                  <a:latin typeface="Comic Sans MS"/>
                </a:rPr>
                <a:t>Temp.</a:t>
              </a:r>
              <a:endParaRPr b="0" lang="en-US" sz="18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6200" y="228600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259092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520" y="182880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81280" y="221004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05520" y="274320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4600" y="99072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67080" y="259092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83844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66880" y="167652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3880" y="68580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33720" y="83844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33720" y="1295640"/>
              <a:ext cx="30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8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52280" y="472428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8179c"/>
                </a:solidFill>
                <a:latin typeface="Comic Sans MS"/>
              </a:rPr>
              <a:t>We will now draw a line of best fit.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066680"/>
            <a:ext cx="5410440" cy="2971800"/>
          </a:xfrm>
          <a:prstGeom prst="line">
            <a:avLst/>
          </a:prstGeom>
          <a:ln w="3816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54100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8179c"/>
                </a:solidFill>
                <a:latin typeface="Comic Sans MS"/>
              </a:rPr>
              <a:t>1. Estimate the rainfall when the temperature is 20</a:t>
            </a:r>
            <a:r>
              <a:rPr b="0" lang="en-GB" sz="2000" spc="-1" strike="noStrike">
                <a:solidFill>
                  <a:srgbClr val="28179c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28179c"/>
                </a:solidFill>
                <a:latin typeface="Comic Sans MS"/>
              </a:rPr>
              <a:t>C.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220968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20968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5410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Approx 38mm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61722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8179c"/>
                </a:solidFill>
                <a:latin typeface="Comic Sans MS"/>
              </a:rPr>
              <a:t>2. Estimate the temperature when the rainfall is 50mm.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95680" y="2666880"/>
            <a:ext cx="0" cy="1447920"/>
          </a:xfrm>
          <a:prstGeom prst="line">
            <a:avLst/>
          </a:prstGeom>
          <a:ln w="28440">
            <a:solidFill>
              <a:srgbClr val="00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599840" y="2666880"/>
            <a:ext cx="2895480" cy="0"/>
          </a:xfrm>
          <a:prstGeom prst="line">
            <a:avLst/>
          </a:prstGeom>
          <a:ln w="28440">
            <a:solidFill>
              <a:srgbClr val="00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6172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Approx. 15</a:t>
            </a:r>
            <a:r>
              <a:rPr b="0" lang="en-GB" sz="2000" spc="-1" strike="noStrike">
                <a:solidFill>
                  <a:srgbClr val="00c300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00c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91440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df9"/>
                </a:solidFill>
                <a:latin typeface="Comic Sans MS"/>
              </a:rPr>
              <a:t>When the line of best fit slopes downwards from left to right, then there is a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negative correlation</a:t>
            </a:r>
            <a:r>
              <a:rPr b="0" lang="en-GB" sz="2800" spc="-1" strike="noStrike">
                <a:solidFill>
                  <a:srgbClr val="fffdf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304812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df9"/>
                </a:solidFill>
                <a:latin typeface="Comic Sans MS"/>
              </a:rPr>
              <a:t>When the line of best fit slopes upwards from left to right, then there is a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positive correlation</a:t>
            </a:r>
            <a:r>
              <a:rPr b="0" lang="en-GB" sz="2800" spc="-1" strike="noStrike">
                <a:solidFill>
                  <a:srgbClr val="fffdf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eredith Adam</cp:lastModifiedBy>
  <dcterms:modified xsi:type="dcterms:W3CDTF">2007-07-03T11:47:44Z</dcterms:modified>
  <cp:revision>8</cp:revision>
  <dc:subject/>
  <dc:title>PowerPoint Presentation</dc:title>
</cp:coreProperties>
</file>